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2636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844640"/>
            <a:ext cx="822636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15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840" y="4394880"/>
            <a:ext cx="822636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15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2636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44640"/>
            <a:ext cx="401436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15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2440" y="1844640"/>
            <a:ext cx="401436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15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4394880"/>
            <a:ext cx="401436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15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2440" y="4394880"/>
            <a:ext cx="401436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15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2636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844640"/>
            <a:ext cx="264852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15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8200" y="1844640"/>
            <a:ext cx="264852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15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19560" y="1844640"/>
            <a:ext cx="264852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15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840" y="4394880"/>
            <a:ext cx="264852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15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8200" y="4394880"/>
            <a:ext cx="264852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15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19560" y="4394880"/>
            <a:ext cx="264852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15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2636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6840" y="1844640"/>
            <a:ext cx="8226360" cy="48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15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2636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844640"/>
            <a:ext cx="822636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15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2636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844640"/>
            <a:ext cx="401436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15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2440" y="1844640"/>
            <a:ext cx="401436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15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2636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822636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15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2636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44640"/>
            <a:ext cx="401436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15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844640"/>
            <a:ext cx="401436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15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6840" y="4394880"/>
            <a:ext cx="401436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15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2636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6840" y="1844640"/>
            <a:ext cx="8226360" cy="48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15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2636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844640"/>
            <a:ext cx="401436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15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440" y="1844640"/>
            <a:ext cx="401436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15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2440" y="4394880"/>
            <a:ext cx="401436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15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2636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844640"/>
            <a:ext cx="401436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15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440" y="1844640"/>
            <a:ext cx="401436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15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4394880"/>
            <a:ext cx="822636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15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2636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844640"/>
            <a:ext cx="822636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15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6840" y="4394880"/>
            <a:ext cx="822636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15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2636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44640"/>
            <a:ext cx="401436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15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2440" y="1844640"/>
            <a:ext cx="401436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15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394880"/>
            <a:ext cx="401436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15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2440" y="4394880"/>
            <a:ext cx="401436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15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2636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844640"/>
            <a:ext cx="264852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15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8200" y="1844640"/>
            <a:ext cx="264852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15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19560" y="1844640"/>
            <a:ext cx="264852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15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6840" y="4394880"/>
            <a:ext cx="264852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15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8200" y="4394880"/>
            <a:ext cx="264852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15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19560" y="4394880"/>
            <a:ext cx="264852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15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2636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844640"/>
            <a:ext cx="822636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15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2636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844640"/>
            <a:ext cx="401436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15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2440" y="1844640"/>
            <a:ext cx="401436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15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2636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6840" y="115920"/>
            <a:ext cx="822636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15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2636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844640"/>
            <a:ext cx="401436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15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440" y="1844640"/>
            <a:ext cx="401436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15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6840" y="4394880"/>
            <a:ext cx="401436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15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2636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844640"/>
            <a:ext cx="401436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15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2440" y="1844640"/>
            <a:ext cx="401436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15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2440" y="4394880"/>
            <a:ext cx="401436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15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2636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844640"/>
            <a:ext cx="401436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15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2440" y="1844640"/>
            <a:ext cx="401436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15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394880"/>
            <a:ext cx="822636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15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2636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44640"/>
            <a:ext cx="822636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7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7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7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7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7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7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7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440" y="2130480"/>
            <a:ext cx="776916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87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7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7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7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7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7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7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mehl@in.tum.de" TargetMode="External"/><Relationship Id="rId2" Type="http://schemas.openxmlformats.org/officeDocument/2006/relationships/hyperlink" Target="mailto:weinzier@in.tum.de" TargetMode="External"/><Relationship Id="rId3" Type="http://schemas.openxmlformats.org/officeDocument/2006/relationships/hyperlink" Target="mailto:neumanph@in.tum.de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Lab Course CF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225440" y="37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liminay 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935520" y="404640"/>
            <a:ext cx="863640" cy="8528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905520" y="404640"/>
            <a:ext cx="792360" cy="7844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561960" y="404640"/>
            <a:ext cx="1633680" cy="8780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628560" y="1414440"/>
            <a:ext cx="1540080" cy="8301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063960" y="5502240"/>
            <a:ext cx="269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r. Miriam Meh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64360" y="1287360"/>
            <a:ext cx="152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777777"/>
                </a:solidFill>
                <a:latin typeface="Arial"/>
              </a:rPr>
              <a:t>Institut fü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777777"/>
                </a:solidFill>
                <a:latin typeface="Arial"/>
              </a:rPr>
              <a:t>Informat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900760" y="1268280"/>
            <a:ext cx="27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777777"/>
                </a:solidFill>
                <a:latin typeface="Arial"/>
              </a:rPr>
              <a:t>Schwerpun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777777"/>
                </a:solidFill>
                <a:latin typeface="Arial"/>
              </a:rPr>
              <a:t>Wissenschaftli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777777"/>
                </a:solidFill>
                <a:latin typeface="Arial"/>
              </a:rPr>
              <a:t>Rech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CFD – Computational Fluid Dynamic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3168720" cy="2575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50920" y="4327560"/>
            <a:ext cx="3960720" cy="2387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492360" y="1484280"/>
            <a:ext cx="3384720" cy="26812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4500720" y="4259160"/>
            <a:ext cx="4387680" cy="232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Technical Aspect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5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thod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15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ite difference discret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15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erative sol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lement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15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15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isualization with Para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Organizatio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2100240"/>
            <a:ext cx="822960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 workshe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‚block‘ lectur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Friday afternoon 14:00-17: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3 week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working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group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two or three members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persona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presentation/ test after each block (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mpulsory!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kground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Registratio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210024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w or per email (until February 13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triculation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gree co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me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Rule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210024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gistration mand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es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deadline of worksheet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Contac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704960"/>
            <a:ext cx="8229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iriam Meh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 u="sng">
                <a:solidFill>
                  <a:srgbClr val="ccccff"/>
                </a:solidFill>
                <a:uFillTx/>
                <a:latin typeface="Courier New"/>
                <a:hlinkClick r:id="rId1"/>
              </a:rPr>
              <a:t>mehl@in.tum.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bias Weinzier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 u="sng">
                <a:solidFill>
                  <a:srgbClr val="ccccff"/>
                </a:solidFill>
                <a:uFillTx/>
                <a:latin typeface="Courier New"/>
                <a:hlinkClick r:id="rId2"/>
              </a:rPr>
              <a:t>weinzier@in.tum.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hilipp Neuman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 u="sng">
                <a:solidFill>
                  <a:srgbClr val="ccccff"/>
                </a:solidFill>
                <a:uFillTx/>
                <a:latin typeface="Courier New"/>
                <a:hlinkClick r:id="rId3"/>
              </a:rPr>
              <a:t>neumanph@in.tum.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EC</dc:creator>
  <dc:description/>
  <dc:language>en-US</dc:language>
  <cp:lastModifiedBy>mehl</cp:lastModifiedBy>
  <cp:revision>0</cp:revision>
  <dc:subject/>
  <dc:title>Hallo</dc:title>
</cp:coreProperties>
</file>